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8C1D-804F-4568-A1B3-51F1D049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EE95-BC6D-4D47-868D-377FE793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B5C-2CA0-4725-8A9A-AD65DE9D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518-82A3-46B2-A344-12970B60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DD4-84B9-4B2A-B65C-5807B67F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B94-B211-4821-B20A-08FF84A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01C-B5D2-452D-A7AA-5F890B35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DC2C-D544-4AF6-89B9-9A4B7C0F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8E7-5649-453A-8232-0C4F60F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B50-A59A-4B0F-9B00-2946FAD9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2E1-B986-48C7-BCF6-7E703AD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567-AA9F-4FEB-80A4-FD77F9C7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5FBB-759B-4C55-8635-FF0814B2D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ing 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pter 7 Reading Notes:  The American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4276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6 The Tide Begins to 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As the war progressed, how did Washington revise his military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shington avoided large battles that might put his army at risk. Instead, he fought a defensive war that was designed to tire ou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Why did the American cause look more hopeful after the Battle of Sarato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 the Battle of Saratoga, the French agreed to become allies of the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3. Name two foreigners who were present with the Americans at Valley Forge, and explain how they helped the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on Friedrich von Steuben of Prussia continually drilled the American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arquis de Lafayette of France used his own money to buy warm clothes for the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.7 The War Goes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1. What tactics did the Americans use successfully against the British in the Southern Colon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ericans in the South used guerrilla tactics, like hit-and-run raids,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2. How did the success of the Continental Army in the South contribute to the American vic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uccess of the Americans in the South tired out the British and eventually forced them to retreat to Yorktown, where they were def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3. How did the French help the Americans in the Battle of York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nch troops and warships helped the Americans to trap the British army at York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4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.8 The War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1. How did the British people respond to news of the Battle of York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British were tired of the war, but King George did not want to accept def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2. What were three key provisions of the Treaty of Par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itain recognized the United States as an independent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itain handed over territory from the Atlantic Coast to the Mississippi R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United States agreed to return all rights and property taken from Loyalists during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2 America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List three weaknesses of the Americans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Continental Army was very small and always short of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w Americans were trained for b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army was plagued by shortages of guns, gunpowder, food, and uni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Besides patriotism, list two American strengths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Americans received secret aid from the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orge Washington was an experienced military leader who inspired courage and conf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4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3 British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List three strengths of the British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British Army had 50,000 soldiers, reinforced by 30,000 Hessian mercenaries, as well as Loyalists, Native Americans, and African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itish soldiers were well trained and experienced, compared to the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itish forces were well supplied with food, uniforms, ammunition, and weap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List two weaknesses of the British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ing troops and supplies from Britain to America was slow and cos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British had poor Generals assigned to Ame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4 Britain Almost Wins th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Why did the Declaration of Independence increase Americans’ motivation to fight and win the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y Americans believed that freedom and the chance to create their own country were goals worth fight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For which group of Americans did the Declaration of Independence raise hopes as well as questions? Why?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Declaration of Independence raised hopes and questions for African Americans; they wondered if the words “all men are created equal” applied to them, and whether independence would bring an end to sla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3. What factors allowed the British to almost win the war in 1776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British, with their greater numbers and superior training, overwhelmed the inexperienced Americans at New York and in other battles in 17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5 A Pep Talk and Surprise Vi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In your own words, what was the message of Thomas Paine’s pamphlet The Cri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essage of Thomas Paine’s pamphlet The Crisis was to remind Americans that real patriots hold onto their beliefs, even in hard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How were the Americans able to win such an overwhelming victory at Trent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shington had his troops cross the Delaware River on Christmas night and take the enemy by surprise early the next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3. How did victories at Trenton and Princeton affect American mor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ctories at Trenton and Princeton showed that the Americans could beat the British and their allies, and greatly boosted American mo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09:01Z</dcterms:created>
  <dc:creator>Property of</dc:creator>
  <dc:description/>
  <dc:language>en-US</dc:language>
  <cp:lastModifiedBy>Property of</cp:lastModifiedBy>
  <dcterms:modified xsi:type="dcterms:W3CDTF">2010-12-16T17:42:36Z</dcterms:modified>
  <cp:revision>26</cp:revision>
  <dc:subject/>
  <dc:title>Reading Notes 7</dc:title>
</cp:coreProperties>
</file>